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21CFE-E314-41A6-9946-DC8BDB2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F1855-1006-4405-BB72-E1B3B692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E8AAA-09CE-4AEB-9886-ADD313E7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9D94A-B524-498B-89F3-C0A8F9D8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D631A-7ACE-49B5-8BA5-0E5A0326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01DC1-ADF3-49BD-911C-3FD786AF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A85D3-8FFA-45D6-BD88-4390E131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EEDB7-CD9D-4AC5-9F02-BA7EF4B7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441C3-27CB-42CB-ACFB-B3593C4B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9E9DA-0412-4386-8EA1-E6442186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75BF9-3E3A-4FAF-A0E1-56EC69FB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6DA68-B3C0-459E-9B16-A23DD35B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2ED83-091E-4A90-B82C-02F792C2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BD2C6-66F0-4D2C-A06B-5C401D24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9E894-106C-4365-92E3-5DDD08D6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A4F84-6C7C-4673-A609-EE48681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DB9B1-F8E6-4DEC-8392-60033C6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54E93-8F8A-4182-87A6-D2C0793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40C8A-60EF-4B84-8827-3453F3E9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1C14D-EC6D-4BD3-AC16-2FBC7E72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92B2-2204-4CFA-89EC-99DCD3BC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89CEB-8DCD-4979-91BD-FD94AEFC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2E07E-66E0-4C6D-9B18-44E22E4D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65312-0DB6-4980-B167-3EB3D9A1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CE838-31B6-4882-89E8-D1E5538C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97B5D-2BE2-4990-8809-5AEED428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AC92A-3BCB-419D-B4DB-32D2A555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8E7B7-1101-4CED-AB01-EF597BFD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96852-C320-4E1B-A6DC-808EF7A5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14C09-A295-4619-B27C-AABFCC28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D64D9-69C1-4A76-B001-8203D826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B3BEE-BB08-4043-97C6-AAA0A726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5ACFB-BFE0-43ED-BBE0-FDE456BC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05D0A-971C-4543-8BF0-5FD9DD6E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95E87-89F0-48FF-A88D-89B2936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8A875-72FF-4FEA-8F5A-A29CCAA6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1AD2A-EAF8-4CC0-84AD-C139B0B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6BC97-50F6-4FF8-8B8A-323A3406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5205E-F017-4EF1-8799-D2F76924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F8DB5-FB5F-407F-AA6A-9905C2D1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4FEFB-C1B8-410A-8FD1-BDD503A4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6669A-3328-4838-B68A-FBEBF51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5F77B-0E49-484F-9E4A-E024AA49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DAB96-FB33-41DF-BC8D-B4726406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EB9DB-127D-4263-9F20-1FD5F3B3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DF4-0C09-4FBB-9B06-398233CE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A6A-4457-4E7C-81B4-18394A35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BAB-5A33-4381-AECF-9F1CA133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B2C-C0D4-443E-9AD9-003865C9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8D8-1254-4821-97D6-CF8F60BB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76C-8D93-49BD-9799-997EE73A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24A-19AC-4922-80EF-E94C5342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14D-7B4E-49D7-A123-FB47972B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A27-CA8B-469E-9962-DCD4D0A0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EAE-E6E4-4607-94B9-29F45B0F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1C2-4C16-44F7-BEEF-C0EDA37A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494-FFC1-4589-8822-BA6343D9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C71C-8913-4B5F-9A4A-52DF9278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B5B1-4796-43F5-8FF9-2488BDD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95D4-5ED1-41DC-830C-1048726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9389-9B1E-42B6-B355-76B94E06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4934-F4A0-404F-A755-9C7F507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37CF-46A8-4794-B448-685979A6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2466-2B1D-4F7B-B0C5-62E2AAE3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E763-E0CF-4E94-B700-F3BBF8A9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D381-B461-4EB3-B173-806178AE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CD38-D2B0-4DB6-8EE8-5C398050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E178-C62A-4AC2-958E-D8F6C22D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334D-CC40-41BD-BA16-F31FC710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96A8-F83F-477F-87BC-9BE49A18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47C8-3009-4499-AB1C-AEBA8DF1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FE30-57FB-4BAE-A692-95F53DF4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427B-0394-4355-A2FE-C6611988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53D6-DB38-4F79-972B-DB71F478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F9BA-793D-4756-B45D-B9630838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2B8B-4D04-44C3-9237-9FDE5E2B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FA91-86AE-40E4-8D72-B744F9BB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7A910-E924-454A-91A1-670B6F6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D908-5AC1-4727-A4B1-AFD59C6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5FFE-534C-44DC-B9A7-48F5B4EB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970C-0B7D-4A55-951D-0542B785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6934-CCEF-4A9C-AD34-B1559A25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900F-2A56-4997-A8A9-A4ED312A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14AC2-E152-4803-BE96-0E34EEF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A0BC-14DA-4380-92DE-6504460E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2DE8-C103-44A3-ADA6-B7D7EDCA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ED87-4D6F-40A2-B271-62C6FFB9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A6394-E5CA-48BA-AEDD-19C99EA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832FC-6726-438C-9F2C-E19BD3C8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4C04-E9B3-481B-B7F5-499E402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90D7E-DA5C-4039-B1C6-8F75410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AC98-47CC-4CB9-B7D3-58C35A42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AC16-3323-4052-B4FD-2CF408CC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C62E-F63A-4D65-B4A6-531ED58D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28604-F88E-426A-AB55-96FE5C01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696E-788F-4503-9A3D-BFF984D2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FDC4C-C383-4CCB-B182-1BE070D1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A401B-6FB2-4DF4-B65E-D32085FA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E5B13-DAC4-488C-9489-6D3F0F54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F3202-D8F6-4D1C-9046-FA01E425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D8564-235A-49FF-BA06-1B32004D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9DC57-5E55-4B69-B8DB-3C2F09F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A0F8-0515-4003-8BD3-D9C2F17D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9AD0-C4DC-492F-A722-C2FE9587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760D-7F62-4758-B727-0A697336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94F57-4269-4369-9F6F-2CD68DBD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8B990-074B-414B-86D0-473576E7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98373-A1BD-402E-8D59-06133E9D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52B9A-65B2-4EBB-9120-54B85F33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1255-46C0-4EE3-8410-63C8FF9F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A26ED-F859-4849-A89B-D6281745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82F1-FD74-45BB-B92F-D70BDB6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2941-D6B0-4B32-B291-724168AE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A783D-DEF3-405D-BAA2-835815B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2709-FF07-4156-8617-D1ED7F54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ABC41-C843-48DE-96BB-B38CD142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C974-FE13-4ED9-BF45-D7FBF11B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F596-AEDE-46AC-90DA-3A027910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437FE-23C9-4D78-9C2D-A8714901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21E93-BE34-40DE-8B76-4889306D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78B10-93AD-47B4-8E86-E682FECDDD6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255FC-3208-4976-A93C-4C88346B4C9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5701F-FBB1-4D2A-8321-DE8B7F35550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grpSp>
        <p:nvGrpSpPr>
          <p:cNvPr id="38" name="타원 30"/>
          <p:cNvGrpSpPr/>
          <p:nvPr/>
        </p:nvGrpSpPr>
        <p:grpSpPr>
          <a:xfrm>
            <a:off x="317520" y="822240"/>
            <a:ext cx="8515440" cy="5529240"/>
            <a:chOff x="317520" y="822240"/>
            <a:chExt cx="8515440" cy="5529240"/>
          </a:xfrm>
        </p:grpSpPr>
        <p:pic>
          <p:nvPicPr>
            <p:cNvPr id="39" name="타원 30" descr=""/>
            <p:cNvPicPr/>
            <p:nvPr/>
          </p:nvPicPr>
          <p:blipFill>
            <a:blip r:embed="rId3"/>
            <a:stretch/>
          </p:blipFill>
          <p:spPr>
            <a:xfrm>
              <a:off x="317520" y="822240"/>
              <a:ext cx="8515440" cy="55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" name=""/>
            <p:cNvSpPr/>
            <p:nvPr/>
          </p:nvSpPr>
          <p:spPr>
            <a:xfrm>
              <a:off x="404640" y="909720"/>
              <a:ext cx="8334720" cy="53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D6AAA-40E3-4034-AD1A-24CEF2AC62E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4E4D5-0406-48D3-9AD3-426426D73D1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B93A7-C699-4F20-96F0-87C8A5C34CF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51A44-2256-4497-8090-F5238805C6C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4FC21-36E0-45A5-9A2A-16A2E22637C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FC177-4BD0-4DE8-827B-3A08E5DB843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그림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1959D-47D4-4A43-BC56-6D780024DFA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그룹 7"/>
          <p:cNvGrpSpPr/>
          <p:nvPr/>
        </p:nvGrpSpPr>
        <p:grpSpPr>
          <a:xfrm>
            <a:off x="-131760" y="-3240"/>
            <a:ext cx="9279000" cy="6858000"/>
            <a:chOff x="-131760" y="-3240"/>
            <a:chExt cx="9279000" cy="6858000"/>
          </a:xfrm>
        </p:grpSpPr>
        <p:pic>
          <p:nvPicPr>
            <p:cNvPr id="480" name="그림 8" descr=""/>
            <p:cNvPicPr/>
            <p:nvPr/>
          </p:nvPicPr>
          <p:blipFill>
            <a:blip r:embed="rId1"/>
            <a:stretch/>
          </p:blipFill>
          <p:spPr>
            <a:xfrm>
              <a:off x="-131760" y="-3240"/>
              <a:ext cx="9279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TextBox 9" descr=""/>
            <p:cNvPicPr/>
            <p:nvPr/>
          </p:nvPicPr>
          <p:blipFill>
            <a:blip r:embed="rId2"/>
            <a:stretch/>
          </p:blipFill>
          <p:spPr>
            <a:xfrm>
              <a:off x="3974760" y="4060080"/>
              <a:ext cx="1066680" cy="3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직사각형 10" descr=""/>
            <p:cNvPicPr/>
            <p:nvPr/>
          </p:nvPicPr>
          <p:blipFill>
            <a:blip r:embed="rId3"/>
            <a:stretch/>
          </p:blipFill>
          <p:spPr>
            <a:xfrm>
              <a:off x="194760" y="1225080"/>
              <a:ext cx="8625960" cy="160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TextBox 12"/>
          <p:cNvSpPr/>
          <p:nvPr/>
        </p:nvSpPr>
        <p:spPr>
          <a:xfrm>
            <a:off x="468360" y="6253200"/>
            <a:ext cx="741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 Light"/>
                <a:ea typeface="맑은 고딕"/>
              </a:rPr>
              <a:t>N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 Light"/>
                <a:ea typeface="맑은 고딕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Calibri Light"/>
                <a:ea typeface="맑은 고딕"/>
              </a:rPr>
              <a:t>- </a:t>
            </a:r>
            <a:r>
              <a:rPr b="0" i="1" lang="ko-KR" sz="1000" spc="-1" strike="noStrike">
                <a:solidFill>
                  <a:srgbClr val="0070c0"/>
                </a:solidFill>
                <a:latin typeface="Calibri Light"/>
                <a:ea typeface="맑은 고딕"/>
              </a:rPr>
              <a:t>하단 기업명 또는 로고 입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타원 30"/>
          <p:cNvGrpSpPr/>
          <p:nvPr/>
        </p:nvGrpSpPr>
        <p:grpSpPr>
          <a:xfrm>
            <a:off x="317520" y="804960"/>
            <a:ext cx="8515440" cy="5529240"/>
            <a:chOff x="317520" y="804960"/>
            <a:chExt cx="8515440" cy="5529240"/>
          </a:xfrm>
        </p:grpSpPr>
        <p:pic>
          <p:nvPicPr>
            <p:cNvPr id="485" name="타원 30" descr=""/>
            <p:cNvPicPr/>
            <p:nvPr/>
          </p:nvPicPr>
          <p:blipFill>
            <a:blip r:embed="rId1"/>
            <a:stretch/>
          </p:blipFill>
          <p:spPr>
            <a:xfrm>
              <a:off x="317520" y="804960"/>
              <a:ext cx="8515440" cy="55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04640" y="892080"/>
              <a:ext cx="8334720" cy="53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TextBox 4"/>
          <p:cNvSpPr/>
          <p:nvPr/>
        </p:nvSpPr>
        <p:spPr>
          <a:xfrm>
            <a:off x="720720" y="1362240"/>
            <a:ext cx="74944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요기업 소개 및 사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추진계획 및 방법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활성화 방안 및 기대효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TextBox 5" descr=""/>
          <p:cNvPicPr/>
          <p:nvPr/>
        </p:nvPicPr>
        <p:blipFill>
          <a:blip r:embed="rId2"/>
          <a:stretch/>
        </p:blipFill>
        <p:spPr>
          <a:xfrm>
            <a:off x="396720" y="219240"/>
            <a:ext cx="3741840" cy="744480"/>
          </a:xfrm>
          <a:prstGeom prst="rect">
            <a:avLst/>
          </a:prstGeom>
          <a:ln w="0">
            <a:noFill/>
          </a:ln>
        </p:spPr>
      </p:pic>
      <p:sp>
        <p:nvSpPr>
          <p:cNvPr id="489" name="TextBox 7"/>
          <p:cNvSpPr/>
          <p:nvPr/>
        </p:nvSpPr>
        <p:spPr>
          <a:xfrm>
            <a:off x="539640" y="5400720"/>
            <a:ext cx="741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N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i="1" lang="ko-KR" sz="1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목차는 변경 불가</a:t>
            </a:r>
            <a:r>
              <a:rPr b="0" i="1" lang="en-US" sz="1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i="1" lang="ko-KR" sz="1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상단에 기업명 또는 로고 입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TextBox 18" descr=""/>
          <p:cNvPicPr/>
          <p:nvPr/>
        </p:nvPicPr>
        <p:blipFill>
          <a:blip r:embed="rId3"/>
          <a:stretch/>
        </p:blipFill>
        <p:spPr>
          <a:xfrm>
            <a:off x="8967960" y="6632640"/>
            <a:ext cx="139680" cy="1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타원 30"/>
          <p:cNvGrpSpPr/>
          <p:nvPr/>
        </p:nvGrpSpPr>
        <p:grpSpPr>
          <a:xfrm>
            <a:off x="317520" y="822240"/>
            <a:ext cx="8515440" cy="5529240"/>
            <a:chOff x="317520" y="822240"/>
            <a:chExt cx="8515440" cy="5529240"/>
          </a:xfrm>
        </p:grpSpPr>
        <p:pic>
          <p:nvPicPr>
            <p:cNvPr id="492" name="타원 30" descr=""/>
            <p:cNvPicPr/>
            <p:nvPr/>
          </p:nvPicPr>
          <p:blipFill>
            <a:blip r:embed="rId1"/>
            <a:stretch/>
          </p:blipFill>
          <p:spPr>
            <a:xfrm>
              <a:off x="317520" y="822240"/>
              <a:ext cx="8515440" cy="55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04640" y="909720"/>
              <a:ext cx="8334720" cy="53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TextBox 1"/>
          <p:cNvSpPr/>
          <p:nvPr/>
        </p:nvSpPr>
        <p:spPr>
          <a:xfrm>
            <a:off x="406440" y="4638600"/>
            <a:ext cx="8486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N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- 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제출한 수행계획서 목차상의 </a:t>
            </a:r>
            <a:r>
              <a:rPr b="0" i="1" lang="en-US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“</a:t>
            </a:r>
            <a:r>
              <a:rPr b="0" i="1" lang="ko-KR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수요기업 소개 및 과제 내용 </a:t>
            </a:r>
            <a:r>
              <a:rPr b="0" i="1" lang="en-US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”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을 요약하여 간결하게 작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- 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페이지를 추가하여 작성할 수 있지만</a:t>
            </a: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, 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가급적 짧고 간결하게 주요내용 위주로 작성을 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TextBox 2" descr=""/>
          <p:cNvPicPr/>
          <p:nvPr/>
        </p:nvPicPr>
        <p:blipFill>
          <a:blip r:embed="rId2"/>
          <a:stretch/>
        </p:blipFill>
        <p:spPr>
          <a:xfrm>
            <a:off x="8967960" y="6632640"/>
            <a:ext cx="139680" cy="189000"/>
          </a:xfrm>
          <a:prstGeom prst="rect">
            <a:avLst/>
          </a:prstGeom>
          <a:ln w="0">
            <a:noFill/>
          </a:ln>
        </p:spPr>
      </p:pic>
      <p:pic>
        <p:nvPicPr>
          <p:cNvPr id="496" name="TextBox 3" descr=""/>
          <p:cNvPicPr/>
          <p:nvPr/>
        </p:nvPicPr>
        <p:blipFill>
          <a:blip r:embed="rId3"/>
          <a:stretch/>
        </p:blipFill>
        <p:spPr>
          <a:xfrm>
            <a:off x="396720" y="231840"/>
            <a:ext cx="5894640" cy="749160"/>
          </a:xfrm>
          <a:prstGeom prst="rect">
            <a:avLst/>
          </a:prstGeom>
          <a:ln w="0">
            <a:noFill/>
          </a:ln>
        </p:spPr>
      </p:pic>
      <p:sp>
        <p:nvSpPr>
          <p:cNvPr id="497" name="TextBox 4"/>
          <p:cNvSpPr/>
          <p:nvPr/>
        </p:nvSpPr>
        <p:spPr>
          <a:xfrm>
            <a:off x="611280" y="1027080"/>
            <a:ext cx="58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o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수요기업 소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주요 사업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소개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서비스 및 제품명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예비창업자의 경우 창업아이템 등 포함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핵심역량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인력현황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기술현황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특허 및 지식재산 등 보유 핵심역량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내외 시장현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 사업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목적 및 필요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즈니스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델 소개 및 특장점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타원 30"/>
          <p:cNvGrpSpPr/>
          <p:nvPr/>
        </p:nvGrpSpPr>
        <p:grpSpPr>
          <a:xfrm>
            <a:off x="244440" y="828720"/>
            <a:ext cx="8508960" cy="5529240"/>
            <a:chOff x="244440" y="828720"/>
            <a:chExt cx="8508960" cy="5529240"/>
          </a:xfrm>
        </p:grpSpPr>
        <p:pic>
          <p:nvPicPr>
            <p:cNvPr id="499" name="타원 30" descr=""/>
            <p:cNvPicPr/>
            <p:nvPr/>
          </p:nvPicPr>
          <p:blipFill>
            <a:blip r:embed="rId1"/>
            <a:stretch/>
          </p:blipFill>
          <p:spPr>
            <a:xfrm>
              <a:off x="244440" y="828720"/>
              <a:ext cx="8508960" cy="55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330120" y="912960"/>
              <a:ext cx="8334360" cy="53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1" name="TextBox 1" descr=""/>
          <p:cNvPicPr/>
          <p:nvPr/>
        </p:nvPicPr>
        <p:blipFill>
          <a:blip r:embed="rId2"/>
          <a:stretch/>
        </p:blipFill>
        <p:spPr>
          <a:xfrm>
            <a:off x="8961480" y="6632640"/>
            <a:ext cx="152280" cy="189000"/>
          </a:xfrm>
          <a:prstGeom prst="rect">
            <a:avLst/>
          </a:prstGeom>
          <a:ln w="0">
            <a:noFill/>
          </a:ln>
        </p:spPr>
      </p:pic>
      <p:pic>
        <p:nvPicPr>
          <p:cNvPr id="502" name="TextBox 2" descr=""/>
          <p:cNvPicPr/>
          <p:nvPr/>
        </p:nvPicPr>
        <p:blipFill>
          <a:blip r:embed="rId3"/>
          <a:stretch/>
        </p:blipFill>
        <p:spPr>
          <a:xfrm>
            <a:off x="396720" y="231840"/>
            <a:ext cx="5540400" cy="749160"/>
          </a:xfrm>
          <a:prstGeom prst="rect">
            <a:avLst/>
          </a:prstGeom>
          <a:ln w="0">
            <a:noFill/>
          </a:ln>
        </p:spPr>
      </p:pic>
      <p:sp>
        <p:nvSpPr>
          <p:cNvPr id="503" name="TextBox 3"/>
          <p:cNvSpPr/>
          <p:nvPr/>
        </p:nvSpPr>
        <p:spPr>
          <a:xfrm>
            <a:off x="611280" y="102708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추진계획 및 전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를 활용한 사업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창업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상품 및 활용서비스 필요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 편성 비중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1523880" y="3589200"/>
            <a:ext cx="9009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015920" y="2908440"/>
          <a:ext cx="6424560" cy="798480"/>
        </p:xfrm>
        <a:graphic>
          <a:graphicData uri="http://schemas.openxmlformats.org/drawingml/2006/table">
            <a:tbl>
              <a:tblPr/>
              <a:tblGrid>
                <a:gridCol w="706680"/>
                <a:gridCol w="1009440"/>
                <a:gridCol w="1009800"/>
                <a:gridCol w="1009440"/>
                <a:gridCol w="1011240"/>
                <a:gridCol w="1009800"/>
                <a:gridCol w="668160"/>
              </a:tblGrid>
              <a:tr h="3042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e6f7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획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․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e6f7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e6f7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집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․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e6f7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e6f7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e6f7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e6f7"/>
                    </a:solidFill>
                  </a:tcPr>
                </a:tc>
              </a:tr>
              <a:tr h="3042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사업비 비중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254160" indent="-254160"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원 </a:t>
                      </a:r>
                      <a:r>
                        <a:rPr b="0" i="1" lang="en-US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/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254160" indent="-254160"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원 </a:t>
                      </a:r>
                      <a:r>
                        <a:rPr b="0" i="1" lang="en-US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/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254160" indent="-254160"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원 </a:t>
                      </a:r>
                      <a:r>
                        <a:rPr b="0" i="1" lang="en-US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/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254160" indent="-254160"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원 </a:t>
                      </a:r>
                      <a:r>
                        <a:rPr b="0" i="1" lang="en-US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/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254160" indent="-254160"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원 </a:t>
                      </a:r>
                      <a:r>
                        <a:rPr b="0" i="1" lang="en-US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/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254160" indent="-25416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원 </a:t>
                      </a:r>
                      <a:r>
                        <a:rPr b="0" i="1" lang="en-US" sz="9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/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8"/>
          <p:cNvSpPr/>
          <p:nvPr/>
        </p:nvSpPr>
        <p:spPr>
          <a:xfrm>
            <a:off x="406440" y="4638600"/>
            <a:ext cx="8486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N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- 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제출한 수행계획서 목차상의 </a:t>
            </a:r>
            <a:r>
              <a:rPr b="0" i="1" lang="ko-KR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사업 추진 계획 및 방법</a:t>
            </a:r>
            <a:r>
              <a:rPr b="0" i="1" lang="en-US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, </a:t>
            </a:r>
            <a:r>
              <a:rPr b="0" i="1" lang="ko-KR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필요한 상품명과 활용서비스 필요성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을 간결하게 작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- 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페이지를 추가하여 작성할 수 있지만</a:t>
            </a: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, 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가급적 짧고 간결하게 주요내용 위주로 작성을 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타원 30"/>
          <p:cNvGrpSpPr/>
          <p:nvPr/>
        </p:nvGrpSpPr>
        <p:grpSpPr>
          <a:xfrm>
            <a:off x="317520" y="822240"/>
            <a:ext cx="8515440" cy="5529240"/>
            <a:chOff x="317520" y="822240"/>
            <a:chExt cx="8515440" cy="5529240"/>
          </a:xfrm>
        </p:grpSpPr>
        <p:pic>
          <p:nvPicPr>
            <p:cNvPr id="508" name="타원 30" descr=""/>
            <p:cNvPicPr/>
            <p:nvPr/>
          </p:nvPicPr>
          <p:blipFill>
            <a:blip r:embed="rId1"/>
            <a:stretch/>
          </p:blipFill>
          <p:spPr>
            <a:xfrm>
              <a:off x="317520" y="822240"/>
              <a:ext cx="8515440" cy="55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04640" y="909720"/>
              <a:ext cx="8334720" cy="53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TextBox 3"/>
          <p:cNvSpPr/>
          <p:nvPr/>
        </p:nvSpPr>
        <p:spPr>
          <a:xfrm>
            <a:off x="603360" y="1027080"/>
            <a:ext cx="7632720" cy="29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o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대외 제휴 계획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o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홍보계획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o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기대 효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o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향후 계획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TextBox 4" descr=""/>
          <p:cNvPicPr/>
          <p:nvPr/>
        </p:nvPicPr>
        <p:blipFill>
          <a:blip r:embed="rId2"/>
          <a:stretch/>
        </p:blipFill>
        <p:spPr>
          <a:xfrm>
            <a:off x="396720" y="231840"/>
            <a:ext cx="5540400" cy="749160"/>
          </a:xfrm>
          <a:prstGeom prst="rect">
            <a:avLst/>
          </a:prstGeom>
          <a:ln w="0">
            <a:noFill/>
          </a:ln>
        </p:spPr>
      </p:pic>
      <p:pic>
        <p:nvPicPr>
          <p:cNvPr id="512" name="TextBox 6" descr=""/>
          <p:cNvPicPr/>
          <p:nvPr/>
        </p:nvPicPr>
        <p:blipFill>
          <a:blip r:embed="rId3"/>
          <a:stretch/>
        </p:blipFill>
        <p:spPr>
          <a:xfrm>
            <a:off x="8972640" y="6632640"/>
            <a:ext cx="135000" cy="1890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7"/>
          <p:cNvSpPr/>
          <p:nvPr/>
        </p:nvSpPr>
        <p:spPr>
          <a:xfrm>
            <a:off x="406440" y="4638600"/>
            <a:ext cx="8486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N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- 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제출한 수행계획서 목차상의 </a:t>
            </a:r>
            <a:r>
              <a:rPr b="0" i="1" lang="en-US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“</a:t>
            </a:r>
            <a:r>
              <a:rPr b="0" i="1" lang="ko-KR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대외 제휴 계획 및 홍보</a:t>
            </a:r>
            <a:r>
              <a:rPr b="0" i="1" lang="en-US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, </a:t>
            </a:r>
            <a:r>
              <a:rPr b="0" i="1" lang="ko-KR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기대효과 </a:t>
            </a:r>
            <a:r>
              <a:rPr b="0" i="1" lang="en-US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, </a:t>
            </a:r>
            <a:r>
              <a:rPr b="0" i="1" lang="ko-KR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향후 계획</a:t>
            </a:r>
            <a:r>
              <a:rPr b="0" i="1" lang="en-US" sz="1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”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을 간결하게 작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- 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페이지를 추가하여 작성할 수 있지만</a:t>
            </a:r>
            <a:r>
              <a:rPr b="0" i="1" lang="en-US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, </a:t>
            </a:r>
            <a:r>
              <a:rPr b="0" i="1" lang="ko-KR" sz="1000" spc="-1" strike="noStrike">
                <a:solidFill>
                  <a:srgbClr val="0070c0"/>
                </a:solidFill>
                <a:latin typeface="Calibri"/>
                <a:ea typeface="맑은 고딕"/>
              </a:rPr>
              <a:t>가급적 짧고 간결하게 주요내용 위주로 작성을 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타원 30"/>
          <p:cNvGrpSpPr/>
          <p:nvPr/>
        </p:nvGrpSpPr>
        <p:grpSpPr>
          <a:xfrm>
            <a:off x="317520" y="822240"/>
            <a:ext cx="8515440" cy="5529240"/>
            <a:chOff x="317520" y="822240"/>
            <a:chExt cx="8515440" cy="5529240"/>
          </a:xfrm>
        </p:grpSpPr>
        <p:pic>
          <p:nvPicPr>
            <p:cNvPr id="515" name="타원 30" descr=""/>
            <p:cNvPicPr/>
            <p:nvPr/>
          </p:nvPicPr>
          <p:blipFill>
            <a:blip r:embed="rId1"/>
            <a:stretch/>
          </p:blipFill>
          <p:spPr>
            <a:xfrm>
              <a:off x="317520" y="822240"/>
              <a:ext cx="8515440" cy="55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404640" y="909720"/>
              <a:ext cx="8334720" cy="53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7" name="TextBox 2" descr=""/>
          <p:cNvPicPr/>
          <p:nvPr/>
        </p:nvPicPr>
        <p:blipFill>
          <a:blip r:embed="rId2"/>
          <a:stretch/>
        </p:blipFill>
        <p:spPr>
          <a:xfrm>
            <a:off x="8967960" y="6632640"/>
            <a:ext cx="139680" cy="189000"/>
          </a:xfrm>
          <a:prstGeom prst="rect">
            <a:avLst/>
          </a:prstGeom>
          <a:ln w="0">
            <a:noFill/>
          </a:ln>
        </p:spPr>
      </p:pic>
      <p:pic>
        <p:nvPicPr>
          <p:cNvPr id="518" name="TextBox 4" descr=""/>
          <p:cNvPicPr/>
          <p:nvPr/>
        </p:nvPicPr>
        <p:blipFill>
          <a:blip r:embed="rId3"/>
          <a:stretch/>
        </p:blipFill>
        <p:spPr>
          <a:xfrm>
            <a:off x="396720" y="231840"/>
            <a:ext cx="5540400" cy="74916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"/>
          <p:cNvSpPr/>
          <p:nvPr/>
        </p:nvSpPr>
        <p:spPr>
          <a:xfrm>
            <a:off x="611280" y="1027080"/>
            <a:ext cx="763272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o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사업 추진일정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o </a:t>
            </a:r>
            <a:r>
              <a:rPr b="1" lang="ko-KR" sz="1100" spc="-1" strike="noStrike">
                <a:solidFill>
                  <a:srgbClr val="000000"/>
                </a:solidFill>
                <a:latin typeface="Calibri"/>
                <a:ea typeface="맑은 고딕"/>
              </a:rPr>
              <a:t>기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406440" y="4638600"/>
            <a:ext cx="8486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 Light"/>
                <a:ea typeface="맑은 고딕"/>
              </a:rPr>
              <a:t>No</a:t>
            </a:r>
            <a:r>
              <a:rPr b="0" i="1" lang="en-US" sz="1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 Light"/>
                <a:ea typeface="맑은 고딕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Calibri Light"/>
                <a:ea typeface="맑은 고딕"/>
              </a:rPr>
              <a:t>- </a:t>
            </a:r>
            <a:r>
              <a:rPr b="0" i="1" lang="ko-KR" sz="1000" spc="-1" strike="noStrike">
                <a:solidFill>
                  <a:srgbClr val="0070c0"/>
                </a:solidFill>
                <a:latin typeface="Calibri Light"/>
                <a:ea typeface="맑은 고딕"/>
              </a:rPr>
              <a:t>사업 추진 일정 및 사업 제안과 관련하여 추가로 언급하고 싶은 내용이 있는 경우 자유롭게 기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1T08:48:25Z</dcterms:created>
  <dc:creator>admin</dc:creator>
  <dc:description/>
  <dc:language>en-US</dc:language>
  <cp:lastModifiedBy>한국데이터산업진흥원</cp:lastModifiedBy>
  <dcterms:modified xsi:type="dcterms:W3CDTF">2025-02-12T05:00:44Z</dcterms:modified>
  <cp:revision>42</cp:revision>
  <dc:subject/>
  <dc:title>PowerPoint 프레젠테이션</dc:title>
</cp:coreProperties>
</file>